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D5C-3DCE-499B-BC40-AC97E3F7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DC3-FC38-4784-9D99-D68EEFB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DA3-D25B-4287-9229-F1441A29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B7C-C4F7-4068-A28E-26287D4D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522-1D0F-4AEB-907F-6E9FEB9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333-033B-4F95-9C36-FC317475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2E1-3D49-42EE-9E8B-A80A71C9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E95-6C7C-4924-A7AF-52340BC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377-9ECC-4732-963C-AA35AFB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F56-5BC1-4E09-8208-8F473EA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60E-5513-4A6E-8CEB-B19D8C1B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200-B63C-4A6F-89FD-36F52CA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C501-0E6F-4809-BCB8-6C30A66281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656480" cy="1963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122480" y="3919680"/>
            <a:ext cx="6954840" cy="2043000"/>
          </a:xfrm>
          <a:prstGeom prst="rect">
            <a:avLst/>
          </a:prstGeom>
          <a:ln w="0">
            <a:noFill/>
          </a:ln>
        </p:spPr>
      </p:pic>
      <p:pic>
        <p:nvPicPr>
          <p:cNvPr id="43" name="BETWEE~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60" cy="36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1968480" y="2577960"/>
            <a:ext cx="5638680" cy="196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97600" y="551592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by Romashchenko 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”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0000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4560" y="499680"/>
            <a:ext cx="4071960" cy="47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kinhead cut their  hair  shorter that  others do.  The majority of them  are working class, patriotic,  reggae and football fanatics, and very uninterested in politic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Рисунок 4" descr="scinhad-3.jpg"/>
          <p:cNvPicPr/>
          <p:nvPr/>
        </p:nvPicPr>
        <p:blipFill>
          <a:blip r:embed="rId1"/>
          <a:stretch/>
        </p:blipFill>
        <p:spPr>
          <a:xfrm>
            <a:off x="395280" y="1844640"/>
            <a:ext cx="3637080" cy="3102120"/>
          </a:xfrm>
          <a:prstGeom prst="rect">
            <a:avLst/>
          </a:prstGeom>
          <a:ln w="0">
            <a:noFill/>
          </a:ln>
        </p:spPr>
      </p:pic>
    </p:spTree>
  </p:cSld>
  <p:transition advTm="22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scinhad-8.jpg"/>
          <p:cNvPicPr/>
          <p:nvPr/>
        </p:nvPicPr>
        <p:blipFill>
          <a:blip r:embed="rId1"/>
          <a:stretch/>
        </p:blipFill>
        <p:spPr>
          <a:xfrm>
            <a:off x="5143680" y="1071720"/>
            <a:ext cx="3565440" cy="2958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135684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1. Bald hea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2.Very wide suspen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3. Army bo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4.Heavy metal T-shir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5.Swazzies, Celtic crosses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confederate flag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alibri"/>
              </a:rPr>
              <a:t>6.Noticeable lack of  IQ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2600"/>
            <a:ext cx="8309160" cy="1187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scinhad-6.jpg"/>
          <p:cNvPicPr/>
          <p:nvPr/>
        </p:nvPicPr>
        <p:blipFill>
          <a:blip r:embed="rId3"/>
          <a:stretch/>
        </p:blipFill>
        <p:spPr>
          <a:xfrm>
            <a:off x="5572080" y="4071960"/>
            <a:ext cx="2786040" cy="2500200"/>
          </a:xfrm>
          <a:prstGeom prst="rect">
            <a:avLst/>
          </a:prstGeom>
          <a:ln w="0">
            <a:noFill/>
          </a:ln>
        </p:spPr>
      </p:pic>
    </p:spTree>
  </p:cSld>
  <p:transition advTm="25000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new boom of Skinhead -movement can be noted also and in a new century. Since the end of 1990,-beginning of 2000, there was "mini-explosion" on the European ska-stage - the set of projects has appeared, whose majority, though and strikingly differed on quality from the production of the end    60-s', beginning 70-s', but were focused on Skinheads, as a target audience. Germany was the centre of boom.</a:t>
            </a:r>
            <a:br>
              <a:rPr sz="25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Содержимое 3" descr="skinhead_234.jpg"/>
          <p:cNvPicPr/>
          <p:nvPr/>
        </p:nvPicPr>
        <p:blipFill>
          <a:blip r:embed="rId1"/>
          <a:stretch/>
        </p:blipFill>
        <p:spPr>
          <a:xfrm>
            <a:off x="5572080" y="285840"/>
            <a:ext cx="2971800" cy="2247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scinhad-9.jpg"/>
          <p:cNvPicPr/>
          <p:nvPr/>
        </p:nvPicPr>
        <p:blipFill>
          <a:blip r:embed="rId2"/>
          <a:stretch/>
        </p:blipFill>
        <p:spPr>
          <a:xfrm>
            <a:off x="6286680" y="300024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scinhad-4.jpg"/>
          <p:cNvPicPr/>
          <p:nvPr/>
        </p:nvPicPr>
        <p:blipFill>
          <a:blip r:embed="rId3"/>
          <a:stretch/>
        </p:blipFill>
        <p:spPr>
          <a:xfrm>
            <a:off x="4572000" y="2714760"/>
            <a:ext cx="1643040" cy="1942920"/>
          </a:xfrm>
          <a:prstGeom prst="rect">
            <a:avLst/>
          </a:prstGeom>
          <a:ln w="0">
            <a:noFill/>
          </a:ln>
        </p:spPr>
      </p:pic>
    </p:spTree>
  </p:cSld>
  <p:transition advTm="49000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25718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KINHEAD IS A COLLECTIVE NOUN FOR ALL MEMBERS OF THE SKINHEAD MOVEMENT, THE YOUTH DOMINANT SUBCULTURE. THE REPRESENTATIVES OF THE SPECIFIED SUBCULTURE ARE CHARACTERIZED BY THE CERTAIN HAIRDRESS: THE SHAVED HEAD, AND ALSO BY CLOTHES-BOOTS WITH HIGH SHOE-LACING AND MASSIVE SOLES IN THE STYLE MILITARY, AND ALSO  WEARING OF TROUSERS IN THE STYLE MILITARY OR JEANS, AND LEATHER JACKET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2" descr="scinhad-7.jpg"/>
          <p:cNvPicPr/>
          <p:nvPr/>
        </p:nvPicPr>
        <p:blipFill>
          <a:blip r:embed="rId1"/>
          <a:stretch/>
        </p:blipFill>
        <p:spPr>
          <a:xfrm>
            <a:off x="642960" y="3571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scinhad-2.jpg"/>
          <p:cNvPicPr/>
          <p:nvPr/>
        </p:nvPicPr>
        <p:blipFill>
          <a:blip r:embed="rId2"/>
          <a:stretch/>
        </p:blipFill>
        <p:spPr>
          <a:xfrm>
            <a:off x="3000240" y="357120"/>
            <a:ext cx="2540160" cy="2108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scinhad-1.jpg"/>
          <p:cNvPicPr/>
          <p:nvPr/>
        </p:nvPicPr>
        <p:blipFill>
          <a:blip r:embed="rId3"/>
          <a:stretch/>
        </p:blipFill>
        <p:spPr>
          <a:xfrm>
            <a:off x="6215040" y="3571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advTm="38000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448154.jpg"/>
          <p:cNvPicPr/>
          <p:nvPr/>
        </p:nvPicPr>
        <p:blipFill>
          <a:blip r:embed="rId1"/>
          <a:stretch/>
        </p:blipFill>
        <p:spPr>
          <a:xfrm>
            <a:off x="428760" y="3000240"/>
            <a:ext cx="3168360" cy="3643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african_skinheads_07.jpg"/>
          <p:cNvPicPr/>
          <p:nvPr/>
        </p:nvPicPr>
        <p:blipFill>
          <a:blip r:embed="rId2"/>
          <a:stretch/>
        </p:blipFill>
        <p:spPr>
          <a:xfrm>
            <a:off x="4286160" y="3571920"/>
            <a:ext cx="378612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00100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s their sign, that the word Skinhead is often used by the synonym of the word neonazi, even concerning those neonazis, which have no a habit to shave their heads and to wear the certain clothing style. In view of a variety of political views, this generalization is mistak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39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ИГОРЬ\Рабочий стол\алексей\Новая папка\african_skinhead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ИГОРЬ\Рабочий стол\алексей\Новая папка\african_skinheads_02.jpg"/>
          <p:cNvPicPr/>
          <p:nvPr/>
        </p:nvPicPr>
        <p:blipFill>
          <a:blip r:embed="rId1"/>
          <a:stretch/>
        </p:blipFill>
        <p:spPr>
          <a:xfrm>
            <a:off x="214200" y="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ИГОРЬ\Рабочий стол\алексей\Новая папка\african_skinheads_04.jpg"/>
          <p:cNvPicPr/>
          <p:nvPr/>
        </p:nvPicPr>
        <p:blipFill>
          <a:blip r:embed="rId2"/>
          <a:stretch/>
        </p:blipFill>
        <p:spPr>
          <a:xfrm>
            <a:off x="3876840" y="3357720"/>
            <a:ext cx="5267160" cy="35002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ИГОРЬ\Рабочий стол\алексей\Новая папка\african_skinheads_05.jpg"/>
          <p:cNvPicPr/>
          <p:nvPr/>
        </p:nvPicPr>
        <p:blipFill>
          <a:blip r:embed="rId1"/>
          <a:stretch/>
        </p:blipFill>
        <p:spPr>
          <a:xfrm>
            <a:off x="642960" y="285840"/>
            <a:ext cx="3278160" cy="245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ИГОРЬ\Рабочий стол\алексей\Новая папка\african_skinheads_06.jpg"/>
          <p:cNvPicPr/>
          <p:nvPr/>
        </p:nvPicPr>
        <p:blipFill>
          <a:blip r:embed="rId2"/>
          <a:stretch/>
        </p:blipFill>
        <p:spPr>
          <a:xfrm>
            <a:off x="4429080" y="214200"/>
            <a:ext cx="4086360" cy="271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ИГОРЬ\Рабочий стол\алексей\Новая папка\african_skinheads_10.jpg"/>
          <p:cNvPicPr/>
          <p:nvPr/>
        </p:nvPicPr>
        <p:blipFill>
          <a:blip r:embed="rId3"/>
          <a:stretch/>
        </p:blipFill>
        <p:spPr>
          <a:xfrm>
            <a:off x="1071720" y="3071880"/>
            <a:ext cx="4949640" cy="327636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5:39:55Z</dcterms:created>
  <dc:creator>ИГОРЬ</dc:creator>
  <dc:description/>
  <dc:language>en-US</dc:language>
  <cp:lastModifiedBy>VIENNA XP</cp:lastModifiedBy>
  <dcterms:modified xsi:type="dcterms:W3CDTF">2010-03-26T09:55:39Z</dcterms:modified>
  <cp:revision>24</cp:revision>
  <dc:subject/>
  <dc:title>Слайд 1</dc:title>
</cp:coreProperties>
</file>